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0879-514B-4AB8-875E-A689D2F8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7604-3935-4F9A-9F7F-F063EC3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ED38B-40D2-4004-801E-717DBC6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3736E-96C5-44C1-B505-9D4F1B9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D6656-435D-4FE7-97D4-ED553D2A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E1618-F4B3-4EEA-9D89-EA4F5AB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B22A-665F-4E1E-B7B4-4569455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DA386-D31A-48C4-9443-48B77447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8DAFC-EC94-490A-9E8A-3C7B48A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6D621-2F89-49A3-9FD7-5A1E03D6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CD7F0-A540-4846-98BA-C5251C90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19C86-CC67-49CA-B202-E8827503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7657-762E-4FF8-819B-61F53253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activity of object-oriented design is determining the classes and objects that will make up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es may be part of a class library, reused from a previous project, or newly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identify potential classes is to identify the objects discussed in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generally nouns, and the services that an object provides are generally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ing Objects to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method does with a parameter may or may not have a permanent effect (outside the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changing the internal state of an object versus changing which object a reference point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Modifi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609480" y="6858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effects of passing various types of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ree variables (one primitive and two objects)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rve as actual parameters to the changeValues method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ir values before and after calling the meth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 modifi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1 = 1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a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2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a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33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609480" y="144792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r.changeValues (a1, a2, a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609480" y="144792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r.changeValues (a1, a2, a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2526120" y="839880"/>
            <a:ext cx="378036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calling change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changing th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hanging th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8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alling change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8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Modifi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effects of changing parameter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the parameters, printing their values befor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fter making the cha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Values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1, Num f2, Num f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hanging the 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1\tf2\tf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f1 + "\t" + f2 + "\t" + f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1 = 99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2.setValue(88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77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hanging the 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1\tf2\tf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f1 + "\t" + f2 + "\t" + f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609480" y="8874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um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ingle integer as an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new Num object, storing an initial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upd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609480" y="114300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stored value to the newly specified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Valu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upd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stored integer value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1523880" y="152280"/>
            <a:ext cx="6172200" cy="6553440"/>
            <a:chOff x="1523880" y="152280"/>
            <a:chExt cx="6172200" cy="6553440"/>
          </a:xfrm>
        </p:grpSpPr>
        <p:sp>
          <p:nvSpPr>
            <p:cNvPr id="437" name="TextBox 5"/>
            <p:cNvSpPr/>
            <p:nvPr/>
          </p:nvSpPr>
          <p:spPr>
            <a:xfrm>
              <a:off x="1523880" y="152280"/>
              <a:ext cx="6172200" cy="65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8" descr="fig07_05.tif"/>
            <p:cNvPicPr/>
            <p:nvPr/>
          </p:nvPicPr>
          <p:blipFill>
            <a:blip r:embed="rId1"/>
            <a:stretch/>
          </p:blipFill>
          <p:spPr>
            <a:xfrm>
              <a:off x="1981080" y="345240"/>
              <a:ext cx="5334120" cy="621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one more important method design issue: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giving a single method name multiple definitions in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method is overloaded, the method name is not sufficient to determine which method is being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overloaded method must be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ature includes the number, type, and order of th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which method is being invoked by analyzing th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857520" y="2391840"/>
            <a:ext cx="36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tryMe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x + .3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864720" y="427356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tryMe(int x, floa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5106960" y="3015360"/>
            <a:ext cx="3838320" cy="871920"/>
            <a:chOff x="5106960" y="3015360"/>
            <a:chExt cx="3838320" cy="871920"/>
          </a:xfrm>
        </p:grpSpPr>
        <p:sp>
          <p:nvSpPr>
            <p:cNvPr id="447" name="Text Box 11"/>
            <p:cNvSpPr/>
            <p:nvPr/>
          </p:nvSpPr>
          <p:spPr>
            <a:xfrm>
              <a:off x="5106960" y="3488400"/>
              <a:ext cx="3838320" cy="39888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 = tryMe(25, 4.3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6087960" y="301536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Inv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9" name="AutoShape 13"/>
          <p:cNvCxnSpPr>
            <a:stCxn id="447" idx="2"/>
            <a:endCxn id="445" idx="3"/>
          </p:cNvCxnSpPr>
          <p:nvPr/>
        </p:nvCxnSpPr>
        <p:spPr>
          <a:xfrm rot="5400000">
            <a:off x="5934960" y="3960720"/>
            <a:ext cx="1166040" cy="1016640"/>
          </a:xfrm>
          <a:prstGeom prst="bentConnector2">
            <a:avLst/>
          </a:prstGeom>
          <a:ln w="57240">
            <a:solidFill>
              <a:srgbClr val="de2c28"/>
            </a:solidFill>
            <a:miter/>
            <a:tailEnd len="med" type="triangle" w="med"/>
          </a:ln>
        </p:spPr>
      </p:cxnSp>
      <p:sp>
        <p:nvSpPr>
          <p:cNvPr id="450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al requirements 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ourse, not all nouns will correspond to a class or object in the fin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96320" y="2133720"/>
            <a:ext cx="73861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must be allowed to specify each product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rimary characteristics, including its na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number. If the bar code does not matc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then an error should be generat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window and entered into the error log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report of all transactions must be 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pecified in section 7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13000" y="2230560"/>
            <a:ext cx="68580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477120" y="22510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362320" y="2590920"/>
            <a:ext cx="190476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26120" y="2611440"/>
            <a:ext cx="7621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38080" y="2971800"/>
            <a:ext cx="21337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86200" y="2971800"/>
            <a:ext cx="12193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838080" y="33526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089160" y="3352680"/>
            <a:ext cx="7621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838080" y="3733920"/>
            <a:ext cx="236232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6035760" y="3666960"/>
            <a:ext cx="1218960" cy="38124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838080" y="4114800"/>
            <a:ext cx="221004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774960" y="4079880"/>
            <a:ext cx="16765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s overloa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String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int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double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ines invoke different versions of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"The total is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load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type of the metho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of the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overloaded methods cannot differ only by their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can be over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oaded constructors provide multiple ways to initialize a new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1600200" y="5160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can mean many differen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ertainly includes running a completed program with various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includes any evaluation performed by human or computer to assess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valuations should occur before coding eve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lier we find an problem, the easier and cheaper it is to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esting is to fi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find and fix errors, we raise our confidence that a program will perform as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never really be sure that all errors have been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do we stop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answer: 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answer:  When we run ou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answer:  When we are willing to risk that an undiscovered error still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eting in which several people examine a design document or section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ommon and effective form of human-bas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 design or code to 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us think more carefully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outsid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p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l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input and user actions, coupled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est cases are organized formally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 sui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are stored and reused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dium and large systems, testing must be a carefully manag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have a separate Quality Assurance (QA) department to lead test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ct and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ect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xecution of test cases to uncover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fixing an error may introduce new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fixing a set of errors we should perfo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unning previous test suites to ensure new errors haven't been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possible to create test cases for all possible input and use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should design tests to maximize their ability to fi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est cases are developed without considering the internal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based on the input and expecte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can b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nput values in the same equivalence category would produce simila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 good test suite will cover all equivalence categories and focus on the boundaries betwee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-Box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-box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cuses on the internal structure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ensure that every path through the code i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s through the code are governed by any conditional or looping statement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testing effort will include both black-box and white-box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class represents a group (classification) of objects with the sam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classes that represent objects should be given names that are singular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represents the concept of one such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free to instantiate as many of each objec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16002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remember that the goal of software is to help the user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at end, the GUI designer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discuss each of these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the user implies an understanding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tru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comm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level of expertise in the problem domain and in 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also realize these issues may differ for different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to the user, the interf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possible, we should design user interfaces that minimize possible use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choose the best GUI components for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n a situation where there are only a few valid options, using a menu or radio buttons would be better than an open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essages should guide the user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users are alike – some may be more familiar with the system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user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provide multiple ways to accomplish a task whenever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izards" to walk a user throug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uts for pow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facilities should be available but not intr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is important – users get used to things appearing and working in certain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should be used consistently to indicate similar types of information o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layout should be consistent from one part of a system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error messages should appear in consistent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determines the way that components are arranged in a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predefined layout managers defined in the Java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3916440" y="3535200"/>
            <a:ext cx="3419640" cy="1600200"/>
            <a:chOff x="3916440" y="3535200"/>
            <a:chExt cx="3419640" cy="1600200"/>
          </a:xfrm>
        </p:grpSpPr>
        <p:sp>
          <p:nvSpPr>
            <p:cNvPr id="504" name="AutoShape 5"/>
            <p:cNvSpPr/>
            <p:nvPr/>
          </p:nvSpPr>
          <p:spPr>
            <a:xfrm>
              <a:off x="3916440" y="3535200"/>
              <a:ext cx="533520" cy="16002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4719960" y="404316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efined in the A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7"/>
          <p:cNvGrpSpPr/>
          <p:nvPr/>
        </p:nvGrpSpPr>
        <p:grpSpPr>
          <a:xfrm>
            <a:off x="3916440" y="5288040"/>
            <a:ext cx="3098880" cy="685800"/>
            <a:chOff x="3916440" y="5288040"/>
            <a:chExt cx="3098880" cy="685800"/>
          </a:xfrm>
        </p:grpSpPr>
        <p:sp>
          <p:nvSpPr>
            <p:cNvPr id="507" name="AutoShape 8"/>
            <p:cNvSpPr/>
            <p:nvPr/>
          </p:nvSpPr>
          <p:spPr>
            <a:xfrm>
              <a:off x="3916440" y="5288040"/>
              <a:ext cx="533520" cy="6858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9"/>
            <p:cNvSpPr/>
            <p:nvPr/>
          </p:nvSpPr>
          <p:spPr>
            <a:xfrm>
              <a:off x="4696560" y="536580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efined in S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0"/>
          <p:cNvSpPr/>
          <p:nvPr/>
        </p:nvSpPr>
        <p:spPr>
          <a:xfrm>
            <a:off x="1752480" y="3429000"/>
            <a:ext cx="20574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low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orde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rd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rid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ridBag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1654200" y="5288040"/>
            <a:ext cx="211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ox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verlay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ntainer has a default layout manager, but we can explicitly set the layout manager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ayout manager has its own particular rules governing how the components will be arr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yout managers pay attention to a component's preferred size or alignment, while others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yout manager adjusts the layout as components are added and as containers are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 container to change its layout mana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us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bbed p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container which permits one of several panes to be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ayoutDem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o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Demo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flow, border, grid, and box layou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yout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frame containing a tabbed pane. The panel on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ab demonstrates a different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ayout Manager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challenging to decide whether something should be represented as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hould an employee's address be represented as a set of instance variables or 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you examine the problem and its details the more clear these issues 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ass becomes too complex, it often should be decomposed into multiple smaller classes to distribute the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609480" y="150804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abbedPane t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abbedPa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Intro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Flow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Border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Grid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Box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t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ro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roduction panel for the LayoutDemo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two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ayout Manager Demonstra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hoose a tab to see an example of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a layout manager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ro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roduction panel for the LayoutDemo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two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ayout Manager Demonstra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hoose a tab to see an example of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a layout manager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1828800" y="228600"/>
            <a:ext cx="5638680" cy="2514600"/>
            <a:chOff x="1828800" y="228600"/>
            <a:chExt cx="5638680" cy="2514600"/>
          </a:xfrm>
        </p:grpSpPr>
        <p:sp>
          <p:nvSpPr>
            <p:cNvPr id="527" name="TextBox 5"/>
            <p:cNvSpPr/>
            <p:nvPr/>
          </p:nvSpPr>
          <p:spPr>
            <a:xfrm>
              <a:off x="1828800" y="228600"/>
              <a:ext cx="563868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5" descr="LayoutDemo1.png"/>
            <p:cNvPicPr/>
            <p:nvPr/>
          </p:nvPicPr>
          <p:blipFill>
            <a:blip r:embed="rId1"/>
            <a:stretch/>
          </p:blipFill>
          <p:spPr>
            <a:xfrm>
              <a:off x="1993680" y="431640"/>
              <a:ext cx="5308560" cy="2108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ow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s as many components as possible on a row, then moves to the next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 displayed in the order they are added to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w of components is centered horizontally by default, but could also be aligned left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and vertical gaps between the components can be explicitl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low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low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flow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ffects their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public Flow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Layou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0"/>
          <p:cNvGrpSpPr/>
          <p:nvPr/>
        </p:nvGrpSpPr>
        <p:grpSpPr>
          <a:xfrm>
            <a:off x="990720" y="380880"/>
            <a:ext cx="6933960" cy="2743200"/>
            <a:chOff x="990720" y="380880"/>
            <a:chExt cx="6933960" cy="2743200"/>
          </a:xfrm>
        </p:grpSpPr>
        <p:sp>
          <p:nvSpPr>
            <p:cNvPr id="539" name="TextBox 5"/>
            <p:cNvSpPr/>
            <p:nvPr/>
          </p:nvSpPr>
          <p:spPr>
            <a:xfrm>
              <a:off x="990720" y="380880"/>
              <a:ext cx="6933960" cy="2743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6" descr="LayoutDemo2.png"/>
            <p:cNvPicPr/>
            <p:nvPr/>
          </p:nvPicPr>
          <p:blipFill>
            <a:blip r:embed="rId1"/>
            <a:stretch/>
          </p:blipFill>
          <p:spPr>
            <a:xfrm>
              <a:off x="1174680" y="539640"/>
              <a:ext cx="6565680" cy="24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9"/>
          <p:cNvGrpSpPr/>
          <p:nvPr/>
        </p:nvGrpSpPr>
        <p:grpSpPr>
          <a:xfrm>
            <a:off x="2209680" y="3352680"/>
            <a:ext cx="4496040" cy="3048120"/>
            <a:chOff x="2209680" y="3352680"/>
            <a:chExt cx="4496040" cy="3048120"/>
          </a:xfrm>
        </p:grpSpPr>
        <p:sp>
          <p:nvSpPr>
            <p:cNvPr id="542" name="TextBox 5"/>
            <p:cNvSpPr/>
            <p:nvPr/>
          </p:nvSpPr>
          <p:spPr>
            <a:xfrm>
              <a:off x="2209680" y="3352680"/>
              <a:ext cx="4496040" cy="30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8" descr="LayoutDemo3.png"/>
            <p:cNvPicPr/>
            <p:nvPr/>
          </p:nvPicPr>
          <p:blipFill>
            <a:blip r:embed="rId2"/>
            <a:stretch/>
          </p:blipFill>
          <p:spPr>
            <a:xfrm>
              <a:off x="2469960" y="3555720"/>
              <a:ext cx="3975480" cy="264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r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s five areas into which components can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1"/>
          <p:cNvGrpSpPr/>
          <p:nvPr/>
        </p:nvGrpSpPr>
        <p:grpSpPr>
          <a:xfrm>
            <a:off x="2209680" y="2590920"/>
            <a:ext cx="4724280" cy="2514600"/>
            <a:chOff x="2209680" y="2590920"/>
            <a:chExt cx="4724280" cy="2514600"/>
          </a:xfrm>
        </p:grpSpPr>
        <p:sp>
          <p:nvSpPr>
            <p:cNvPr id="547" name="Rectangle 5"/>
            <p:cNvSpPr/>
            <p:nvPr/>
          </p:nvSpPr>
          <p:spPr>
            <a:xfrm>
              <a:off x="2209680" y="2590920"/>
              <a:ext cx="4724280" cy="251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"/>
            <p:cNvSpPr/>
            <p:nvPr/>
          </p:nvSpPr>
          <p:spPr>
            <a:xfrm>
              <a:off x="2269800" y="2646360"/>
              <a:ext cx="4603680" cy="44784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"/>
            <p:cNvSpPr/>
            <p:nvPr/>
          </p:nvSpPr>
          <p:spPr>
            <a:xfrm>
              <a:off x="2269800" y="4602240"/>
              <a:ext cx="4603680" cy="44748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3106440" y="3149640"/>
              <a:ext cx="29307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"/>
            <p:cNvSpPr/>
            <p:nvPr/>
          </p:nvSpPr>
          <p:spPr>
            <a:xfrm>
              <a:off x="6097320" y="3149640"/>
              <a:ext cx="7761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2269800" y="3149640"/>
              <a:ext cx="77652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rea displays one component (which could be a container such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the four outer areas enlarges as needed to accommodate the component add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hing is added to the outer areas, they take up no space and other areas expand to fill the 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area expands to fill space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rder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border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a button in each area of a b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 to show how it affects their position, shape, and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Layou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define classes with the proper amount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t may be unnecessary to create separate classes for each type of appliance in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ufficient to define a more gener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with appropriate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 depends on the details of the problem being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, BorderLayout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, BorderLayout.NOR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, BorderLayout.SOU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, BorderLayout.EA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, BorderLayout.W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, BorderLayout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, BorderLayout.NOR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, BorderLayout.SOU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, BorderLayout.EA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, BorderLayout.W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2"/>
          <p:cNvGrpSpPr/>
          <p:nvPr/>
        </p:nvGrpSpPr>
        <p:grpSpPr>
          <a:xfrm>
            <a:off x="1676520" y="380880"/>
            <a:ext cx="5790960" cy="2438640"/>
            <a:chOff x="1676520" y="380880"/>
            <a:chExt cx="5790960" cy="2438640"/>
          </a:xfrm>
        </p:grpSpPr>
        <p:sp>
          <p:nvSpPr>
            <p:cNvPr id="564" name="TextBox 5"/>
            <p:cNvSpPr/>
            <p:nvPr/>
          </p:nvSpPr>
          <p:spPr>
            <a:xfrm>
              <a:off x="1676520" y="380880"/>
              <a:ext cx="5790960" cy="243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9" descr="LayoutDemo4.png"/>
            <p:cNvPicPr/>
            <p:nvPr/>
          </p:nvPicPr>
          <p:blipFill>
            <a:blip r:embed="rId1"/>
            <a:stretch/>
          </p:blipFill>
          <p:spPr>
            <a:xfrm>
              <a:off x="1923840" y="552240"/>
              <a:ext cx="5295960" cy="209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11"/>
          <p:cNvGrpSpPr/>
          <p:nvPr/>
        </p:nvGrpSpPr>
        <p:grpSpPr>
          <a:xfrm>
            <a:off x="1219320" y="3200400"/>
            <a:ext cx="6705360" cy="3124080"/>
            <a:chOff x="1219320" y="3200400"/>
            <a:chExt cx="6705360" cy="3124080"/>
          </a:xfrm>
        </p:grpSpPr>
        <p:sp>
          <p:nvSpPr>
            <p:cNvPr id="567" name="TextBox 5"/>
            <p:cNvSpPr/>
            <p:nvPr/>
          </p:nvSpPr>
          <p:spPr>
            <a:xfrm>
              <a:off x="1219320" y="3200400"/>
              <a:ext cx="6705360" cy="3124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10" descr="LayoutDemo5.png"/>
            <p:cNvPicPr/>
            <p:nvPr/>
          </p:nvPicPr>
          <p:blipFill>
            <a:blip r:embed="rId2"/>
            <a:stretch/>
          </p:blipFill>
          <p:spPr>
            <a:xfrm>
              <a:off x="1466640" y="3416040"/>
              <a:ext cx="6210360" cy="2692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ents a container’s components in a rectangular grid of rows an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is placed in each cell of the grid, and all cells have the sam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fill the grid from left-to-right and top-to-bottom (by 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each cell is determined by the overall size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id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grid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 affects their position, shape, and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Layout (2, 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1676520" y="304920"/>
            <a:ext cx="6019560" cy="2895480"/>
            <a:chOff x="1676520" y="304920"/>
            <a:chExt cx="6019560" cy="2895480"/>
          </a:xfrm>
        </p:grpSpPr>
        <p:sp>
          <p:nvSpPr>
            <p:cNvPr id="579" name="TextBox 5"/>
            <p:cNvSpPr/>
            <p:nvPr/>
          </p:nvSpPr>
          <p:spPr>
            <a:xfrm>
              <a:off x="1676520" y="304920"/>
              <a:ext cx="6019560" cy="2895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9" descr="LayoutDemo6.png"/>
            <p:cNvPicPr/>
            <p:nvPr/>
          </p:nvPicPr>
          <p:blipFill>
            <a:blip r:embed="rId1"/>
            <a:stretch/>
          </p:blipFill>
          <p:spPr>
            <a:xfrm>
              <a:off x="1886040" y="488880"/>
              <a:ext cx="5600520" cy="252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Group 12"/>
          <p:cNvGrpSpPr/>
          <p:nvPr/>
        </p:nvGrpSpPr>
        <p:grpSpPr>
          <a:xfrm>
            <a:off x="2286000" y="3429000"/>
            <a:ext cx="4648320" cy="3276720"/>
            <a:chOff x="2286000" y="3429000"/>
            <a:chExt cx="4648320" cy="3276720"/>
          </a:xfrm>
        </p:grpSpPr>
        <p:sp>
          <p:nvSpPr>
            <p:cNvPr id="582" name="TextBox 5"/>
            <p:cNvSpPr/>
            <p:nvPr/>
          </p:nvSpPr>
          <p:spPr>
            <a:xfrm>
              <a:off x="2286000" y="3429000"/>
              <a:ext cx="4648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0" descr="LayoutDemo7.png"/>
            <p:cNvPicPr/>
            <p:nvPr/>
          </p:nvPicPr>
          <p:blipFill>
            <a:blip r:embed="rId2"/>
            <a:stretch/>
          </p:blipFill>
          <p:spPr>
            <a:xfrm>
              <a:off x="2508120" y="3644640"/>
              <a:ext cx="4204080" cy="284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x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ganizes components horizontally (in one row) or vertically (in one colum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 placed top-to-bottom or left-to-right in the order in which they are added to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bining multiple containers using box layout, many different configurations can be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tainers with box layouts are often preferred to one container that uses the more complicated gridbag layou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isible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dded to a box layout container to take up space betwee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gid ar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fixe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where excess space shoul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sible components are created using thes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RigidArea(Dimen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HorizontalG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VerticalGlu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x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box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a ver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 layout (and invisible components) affects their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BoxLayout.Y_AXI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609480" y="12556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1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VerticalGlu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2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identifying the classes we need is the proces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ing 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activity that a program must accomplish must be represented by one or more methods in one or mor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nerally use verbs for the names 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rly stages it is not necessary to determine every method of every class – begin with primary responsibilities and evolve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609480" y="12556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1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VerticalGlu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2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1"/>
          <p:cNvGrpSpPr/>
          <p:nvPr/>
        </p:nvGrpSpPr>
        <p:grpSpPr>
          <a:xfrm>
            <a:off x="1676520" y="838080"/>
            <a:ext cx="2743200" cy="4038840"/>
            <a:chOff x="1676520" y="838080"/>
            <a:chExt cx="2743200" cy="4038840"/>
          </a:xfrm>
        </p:grpSpPr>
        <p:sp>
          <p:nvSpPr>
            <p:cNvPr id="597" name="TextBox 5"/>
            <p:cNvSpPr/>
            <p:nvPr/>
          </p:nvSpPr>
          <p:spPr>
            <a:xfrm>
              <a:off x="1676520" y="838080"/>
              <a:ext cx="2743200" cy="4038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Picture 9" descr="LayoutDemo8.png"/>
            <p:cNvPicPr/>
            <p:nvPr/>
          </p:nvPicPr>
          <p:blipFill>
            <a:blip r:embed="rId1"/>
            <a:stretch/>
          </p:blipFill>
          <p:spPr>
            <a:xfrm>
              <a:off x="1841400" y="990360"/>
              <a:ext cx="2413080" cy="37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12"/>
          <p:cNvGrpSpPr/>
          <p:nvPr/>
        </p:nvGrpSpPr>
        <p:grpSpPr>
          <a:xfrm>
            <a:off x="4648320" y="838080"/>
            <a:ext cx="2895480" cy="4953240"/>
            <a:chOff x="4648320" y="838080"/>
            <a:chExt cx="2895480" cy="4953240"/>
          </a:xfrm>
        </p:grpSpPr>
        <p:sp>
          <p:nvSpPr>
            <p:cNvPr id="600" name="TextBox 5"/>
            <p:cNvSpPr/>
            <p:nvPr/>
          </p:nvSpPr>
          <p:spPr>
            <a:xfrm>
              <a:off x="4648320" y="838080"/>
              <a:ext cx="2895480" cy="4953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0" descr="LayoutDemo9.png"/>
            <p:cNvPicPr/>
            <p:nvPr/>
          </p:nvPicPr>
          <p:blipFill>
            <a:blip r:embed="rId2"/>
            <a:stretch/>
          </p:blipFill>
          <p:spPr>
            <a:xfrm>
              <a:off x="4838760" y="1041120"/>
              <a:ext cx="2514600" cy="454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ut around any Swing component to define how the edges of the component should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can be used effectively to group components vi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several static methods for creating bord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der is applied to a component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the space around the edge of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has no visua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s the component with a simpl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's color and thicknes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he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he effect of an etched groove around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olors for the highlight and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800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vel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aised or lo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olors for the outer and inner highlights and sha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tle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s a title on or around the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can be oriented in many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te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the sizes of the top, left, bottom, and right edges of the border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ither a solid color or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bination of two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r both of the borders can be a compound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Demo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rderDemo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various types of bor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border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Creates several bordered panels and display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rder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Layout (0, 2, 5, 1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order (BorderFactory.createEmptyBorder (8, 8, 8, 8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etBorder (BorderFactory.createLineBorder (Color.red, 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1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in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etBorder (BorderFactory.createEtched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2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Etche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3.setBorder (BorderFactory.createRaisedBevel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3.add (new JLabel ("Raised Bevel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4.setBorder (BorderFactory.createLoweredBevel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4.add (new JLabel ("Lowered Bevel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5.setBorder (BorderFactory.createTitledBorder ("Title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5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itle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6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dBorder tb = BorderFactory.createTitledBorder ("Titl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.setTitleJustification (TitledBorder.R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6.setBorder (t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6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itled Border (right)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609480" y="91440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7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1 = BorderFactory.createLineBorder (Color.blue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2 = BorderFactory.createEtchedBorder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setBorder (BorderFactory.createCompoundBorder (b1, b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ompoun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8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mb = BorderFactory.createMatteBorder (1, 5, 1,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setBorder (m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Matt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609480" y="91440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7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1 = BorderFactory.createLineBorder (Color.blue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2 = BorderFactory.createEtchedBorder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setBorder (BorderFactory.createCompoundBorder (b1, b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ompoun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8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mb = BorderFactory.createMatteBorder (1, 5, 1,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setBorder (m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Matt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7"/>
          <p:cNvGrpSpPr/>
          <p:nvPr/>
        </p:nvGrpSpPr>
        <p:grpSpPr>
          <a:xfrm>
            <a:off x="1828800" y="762120"/>
            <a:ext cx="5562720" cy="4114800"/>
            <a:chOff x="1828800" y="762120"/>
            <a:chExt cx="5562720" cy="4114800"/>
          </a:xfrm>
        </p:grpSpPr>
        <p:sp>
          <p:nvSpPr>
            <p:cNvPr id="623" name="TextBox 5"/>
            <p:cNvSpPr/>
            <p:nvPr/>
          </p:nvSpPr>
          <p:spPr>
            <a:xfrm>
              <a:off x="1828800" y="762120"/>
              <a:ext cx="5562720" cy="4114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6" descr="Screen shot 2011-03-08 at 11.15.51 AM.png"/>
            <p:cNvPicPr/>
            <p:nvPr/>
          </p:nvPicPr>
          <p:blipFill>
            <a:blip r:embed="rId1"/>
            <a:stretch/>
          </p:blipFill>
          <p:spPr>
            <a:xfrm>
              <a:off x="2082600" y="958680"/>
              <a:ext cx="5054760" cy="372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has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600200" y="23972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a static method is one that can be invoked through its clas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re st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= Math.sqrt(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can be static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if a method or variable should be static is an important design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clare static methods and variables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ssociates the method or variable with the class rather than with an object of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tic variable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carefully consider the implications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each object has its own data space, but if a variable is declared as static, only one copy of the variab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float pr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space for a static variable is created when the class is first 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s instantiated from the class share its static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alue of a static variable in one object changes it for all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an extend our discussion of the design of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 focuse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is declared as static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can be invoked through the clas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Helper.cube(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1523880" y="1371600"/>
            <a:ext cx="59436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b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* num *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the modifiers can be interchanged, but by convention visibility modifiers come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static – it is invoked by the Java interpreter without creating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cannot reference instance variables because instance variables don't exist until an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 static method can reference static variables or loc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nd static variables often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keeps track of how m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og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have been created using a static variable, and makes that information available using a stat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ganCoun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ga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09480" y="7621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loganCoun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atic modif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everal Slogan objects and pri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objects that were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ob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Remember the Alamo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Don't Worry. Be Happ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Live Free or Di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Talk is Chea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Write Once, Run Anywher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logans created: " + Slogan.getCou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Live Free or Di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Talk is Chea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Write Once, Run Anywher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logans created: " + Slogan.getCou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2810520" y="1143000"/>
            <a:ext cx="341460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member the Ala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n't Worry. Be Hap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ve Free or D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lk is C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Once, Run Anyw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s created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loga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ingle slogan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hr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slogan and cou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stances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String s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 = s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10396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slogan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number of instances of this class that have b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unt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an't a static method reference an instance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an't a static method reference an instance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28360" y="2362320"/>
            <a:ext cx="7470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Because instance data is created only whe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object 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ou don't need an object to execute a static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nd even if you had an object, which object's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data would be referenced? (remember, the metho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voked through the class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600200" y="1297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600200" y="2955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in a software system can have various types of relationships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f the most common relationsh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discuss dependency and aggregation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discussed in detail in 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hen one class relies on another in some way, usually by invoking the methods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seen dependencies in many previous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't want numerous or complex dependencies among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do we want complex classes that don't depend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design strikes the right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pendencies occur between objects of the sa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the class may accept an object of the same class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akes as a parameter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3 = str1.concat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defines a class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 number is a value that can be represented as the ratio of two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ccept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Numb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iver to exercise the use of multiple Ration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rational number objects and performs var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operations on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6, 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1, 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3, r4, r5, r6, r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irst rational number: " + r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econd rational number: " + 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1.isLike(r2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NOT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= r1.reciproca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reciprocal of r1 is: " + r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= r1.add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= r1.subtract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= r1.multiply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= r1.divide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+ r2: " + r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- r2: " + r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* r2: " + r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/ r2: " + r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1.isLike(r2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NOT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= r1.reciproca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reciprocal of r1 is: " + r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= r1.add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= r1.subtract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= r1.multiply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= r1.divide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+ r2: " + r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- r2: " + r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* r2: " + r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/ r2: " + r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05480" y="685800"/>
            <a:ext cx="3780360" cy="27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rational number: 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rational number: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and r2 are NOT eq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ciprocal of r1 is: 4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+ r2: 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- r2: 5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* r2: 1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/ r2: 9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Numb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one rational number with a numerator and denomin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,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rational number by ensuring a non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nominator and making only the numerator sig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the numerator "store" the 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 &l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 = numer *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denom *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 = num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 den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numerator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Numerat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denominator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Denominat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eation of software involves four basic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ctivities are not strictly linear – they overlap and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09480" y="5335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reciprocal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eciproca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denominator, numer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this rational number to the one passed as a parame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common denominator is found by multiplying the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nomin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add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Denominator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1 = numer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2 = op2.getNumerator() *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numerator1 + numerator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sum, common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ubtracts the rational number passed as a parameter from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subtract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Denominator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1 = numer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2 = op2.getNumerator() *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erence = numerator1 - numerator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difference, common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ies this rational number by the one passed a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multiply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 = numerator * op2.getNumer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numer, den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09480" y="62244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vides this rational number by the one passed as a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y multiplying by the reciprocal of the second rat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divide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y (op2.reciproc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is rational number is equal to the one pa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s a parameter. Assumes they are both reduc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Like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umerator == op2.getNumerator(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= op2.getDenominator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rational number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erator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inator =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numerator +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numerator + "/" +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09480" y="1027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duces this rational number by dividing both the num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the denominator by their greatest common divi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erator !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 = gcd (Math.abs(numerator), 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 = numerator / com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 denominator / com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609480" y="108900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and returns the greatest common divisor of the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ositive parameters. Uses Euclid's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!=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g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num1 -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num2 -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greg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object that is made up of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ggrega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-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ggregate object contains references to other objects as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al kind of dependency; the aggregate relies on the objects that compo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ollowing example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composed, in part,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 has an address (in fact each student has two addr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Body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09480" y="30636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Bod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ggregat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Bo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Address and Student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800 Lancaster Ave.", "Villanov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A", 190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j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21 Jump Street", "Lynchburg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VA", 2455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joh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John", "Smith", j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m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123 Main Street", "Euclid", "OH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1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marsha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Marsha", "Jones", m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joh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arsh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09480" y="30636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Bod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ggregat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Bo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Address and Student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800 Lancaster Ave.", "Villanov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A", 190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j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21 Jump Street", "Lynchburg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VA", 2455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joh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John", "Smith", j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m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123 Main Street", "Euclid", "OH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1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marsha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Marsha", "Jones", m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joh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arsh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067920" y="228600"/>
            <a:ext cx="280476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 Jump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ynchburg, VA  24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 Lancaster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illanova, PA  190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sha J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3 Main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uclid, OH  44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 Lancaster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illanova, PA  190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y the tasks that a program must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, not 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n initial set of requirements is provided, but they should be critiqued and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fficult to establish detailed, unambiguous, and complet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 attention to the requirements can save significant time and expense in the overal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llege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firstName, last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homeAddress, schoolAdd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student with the specified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String first, String last, Address ho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 = fir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 = la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Address = ho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Address = scho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609480" y="1089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description of this Student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firstName + " " + lastName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Home Address:\n" + homeAddress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School Address:\n" + schoolAdd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609480" y="60948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res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treet add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eetAddress, city, st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address with the specified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String street, String town, String s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 = stre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 = t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= 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 = zi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description of this Address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streetAddress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city + ", " + state + "  " + zipCo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 in U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6"/>
          <p:cNvGrpSpPr/>
          <p:nvPr/>
        </p:nvGrpSpPr>
        <p:grpSpPr>
          <a:xfrm>
            <a:off x="1066680" y="1605240"/>
            <a:ext cx="6934320" cy="4033440"/>
            <a:chOff x="1066680" y="1605240"/>
            <a:chExt cx="6934320" cy="4033440"/>
          </a:xfrm>
        </p:grpSpPr>
        <p:sp>
          <p:nvSpPr>
            <p:cNvPr id="244" name="Rectangle 5"/>
            <p:cNvSpPr/>
            <p:nvPr/>
          </p:nvSpPr>
          <p:spPr>
            <a:xfrm>
              <a:off x="1066680" y="1605240"/>
              <a:ext cx="3175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1066680" y="2009520"/>
              <a:ext cx="317520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66680" y="2300040"/>
              <a:ext cx="317520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156280" y="3174840"/>
              <a:ext cx="284472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5157720" y="1619640"/>
              <a:ext cx="28432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5156280" y="2019240"/>
              <a:ext cx="284472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firstNam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lastNam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homeAddress :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choolAddress :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1625400" y="5105160"/>
              <a:ext cx="284508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1625400" y="3949560"/>
              <a:ext cx="284508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reetAddress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ity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at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zipCode : l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8"/>
            <p:cNvSpPr/>
            <p:nvPr/>
          </p:nvSpPr>
          <p:spPr>
            <a:xfrm>
              <a:off x="1625400" y="3549960"/>
              <a:ext cx="28450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0"/>
            <p:cNvSpPr/>
            <p:nvPr/>
          </p:nvSpPr>
          <p:spPr>
            <a:xfrm>
              <a:off x="6070680" y="3733560"/>
              <a:ext cx="380880" cy="381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AutoShape 21"/>
            <p:cNvCxnSpPr>
              <a:stCxn id="253" idx="2"/>
              <a:endCxn id="251" idx="3"/>
            </p:cNvCxnSpPr>
            <p:nvPr/>
          </p:nvCxnSpPr>
          <p:spPr>
            <a:xfrm rot="5400000">
              <a:off x="5158800" y="3425760"/>
              <a:ext cx="413280" cy="179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5" name="Line 9"/>
            <p:cNvSpPr/>
            <p:nvPr/>
          </p:nvSpPr>
          <p:spPr>
            <a:xfrm>
              <a:off x="42418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s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800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allows an object to ref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, used inside a method, refers to the object through which the method is being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is used inside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y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invok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1.tryM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2.tryM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invocation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ref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n the second it ref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s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can be used to distinguish the instance variables of a class from corresponding method parameters with the sam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from Chapter 4 could have been written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38080" y="3664080"/>
            <a:ext cx="73152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(String name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lo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tNumb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bal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ame =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cctNumber = acct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balance =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600200" y="3495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abstract methods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thod header without a method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bstract method can be declared using the modifi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because all methods in an interface are abstract, usually it is lef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is used to establish a set of methods that a class will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762120" y="2292480"/>
            <a:ext cx="75438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a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2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eOther (int n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4266360" y="4343400"/>
            <a:ext cx="3602160" cy="1159920"/>
            <a:chOff x="4266360" y="4343400"/>
            <a:chExt cx="3602160" cy="1159920"/>
          </a:xfrm>
        </p:grpSpPr>
        <p:sp>
          <p:nvSpPr>
            <p:cNvPr id="275" name="Text Box 9"/>
            <p:cNvSpPr/>
            <p:nvPr/>
          </p:nvSpPr>
          <p:spPr>
            <a:xfrm>
              <a:off x="4266360" y="4799520"/>
              <a:ext cx="360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semicolon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llows each method he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 flipV="1">
              <a:off x="6531120" y="4343400"/>
              <a:ext cx="2188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7"/>
          <p:cNvSpPr/>
          <p:nvPr/>
        </p:nvSpPr>
        <p:spPr>
          <a:xfrm>
            <a:off x="5181120" y="1065600"/>
            <a:ext cx="300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 of the method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face a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finition (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1015560" y="1675080"/>
            <a:ext cx="3856680" cy="809280"/>
            <a:chOff x="1015560" y="1675080"/>
            <a:chExt cx="3856680" cy="809280"/>
          </a:xfrm>
        </p:grpSpPr>
        <p:sp>
          <p:nvSpPr>
            <p:cNvPr id="279" name="Line 6"/>
            <p:cNvSpPr/>
            <p:nvPr/>
          </p:nvSpPr>
          <p:spPr>
            <a:xfrm>
              <a:off x="2690640" y="210348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5"/>
            <p:cNvSpPr/>
            <p:nvPr/>
          </p:nvSpPr>
          <p:spPr>
            <a:xfrm>
              <a:off x="1015560" y="1675080"/>
              <a:ext cx="385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rfac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a reserved wo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d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will accomplish it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ftware design specifies how the solution can be broken down into manageable pieces and what each piece will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-oriented design determines which classes  and objects are needed, and specifies how they will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 design details include how individual methods will accomplish their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cannot be in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in an interface have public visibility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formally implements an interfac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g so in the class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implementations for every abstract method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lass declares that it implements an interface, it must define all methods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143000" y="1658880"/>
            <a:ext cx="6858000" cy="454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Do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at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1"/>
          <p:cNvGrpSpPr/>
          <p:nvPr/>
        </p:nvGrpSpPr>
        <p:grpSpPr>
          <a:xfrm>
            <a:off x="3939480" y="764280"/>
            <a:ext cx="2198520" cy="1064520"/>
            <a:chOff x="3939480" y="764280"/>
            <a:chExt cx="2198520" cy="1064520"/>
          </a:xfrm>
        </p:grpSpPr>
        <p:sp>
          <p:nvSpPr>
            <p:cNvPr id="288" name="Text Box 5"/>
            <p:cNvSpPr/>
            <p:nvPr/>
          </p:nvSpPr>
          <p:spPr>
            <a:xfrm>
              <a:off x="3939480" y="764280"/>
              <a:ext cx="219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lement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erved wo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5028840" y="144792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029200" y="3809880"/>
            <a:ext cx="2842920" cy="1295280"/>
            <a:chOff x="5029200" y="3809880"/>
            <a:chExt cx="2842920" cy="1295280"/>
          </a:xfrm>
        </p:grpSpPr>
        <p:sp>
          <p:nvSpPr>
            <p:cNvPr id="291" name="Text Box 8"/>
            <p:cNvSpPr/>
            <p:nvPr/>
          </p:nvSpPr>
          <p:spPr>
            <a:xfrm>
              <a:off x="5359680" y="3885120"/>
              <a:ext cx="2512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ch method lis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ab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iven a defin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"/>
            <p:cNvSpPr/>
            <p:nvPr/>
          </p:nvSpPr>
          <p:spPr>
            <a:xfrm>
              <a:off x="5029200" y="380988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(or instead of) abstract methods, an interface can contain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ass implements an interface, it gains access to all its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that implements an interface can implement other method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ity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sti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Quiz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09480" y="1405080"/>
            <a:ext cx="791064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lexit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erface for an object that can be assigned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xplicit complex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erfac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mplexi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mplexi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609480" y="83808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es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question (and its answ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question, 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question with a default complex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String query, String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= qu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complexity level for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mplexi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 = 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omplexity level for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mplexit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Ques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094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answer to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Answ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rue if the candidate answer matches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Correct (String candidate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.equals(candidate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question (and its answer)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+ "\n" + 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iniQuiz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class that implements an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short qui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q1, q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ossi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"What is the capital of Jamaica?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Kingst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1.setComplexity 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"Which is worse, ignorance or apathy?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I don't know and I don't car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2.setComplexity (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1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1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1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1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2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2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2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2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1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1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1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1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2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2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2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2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408680" y="838080"/>
            <a:ext cx="621864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 is the capital of Jamaica? (Level: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K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worse, ignorance or apathy? (Level: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pat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, the answer is I don't know and I don'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translating a design int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ce programmers often think that writing code is the heart of software development, but actually it should be the least creativ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important decisions are made during requirements and desig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should focus on coding details, including style guidelines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implement multip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s are list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must implement all methods in all interfaces listed in th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609480" y="39625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anyThings implements interface1, interfac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ll methods of both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many helpful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contains one abstract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used to compare tw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n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mplemen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ing us the ability to put strings in lexicographic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arable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lass can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ovide a mechanism for comparing object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obj1.compareTo(obj2)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obj1 is less than obj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return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negativ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es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 if they are equal, and positiv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up to the programmer to determine what makes one object less tha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terator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discussed in Chapter 5, an iterator is an object that provides a means of processing a collection of objects on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is created formally by implemen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, which contains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a boolean result – true if there are items left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he next object in th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moves the object most recently return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terable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interfac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stablishes that an object provides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has one method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return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n be processed using the for-each vers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: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ethods that perform an iteration;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vides an iterator 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write a class that implements certain methods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ithout formally implementing the interfac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formally establishing the relationship between a class and an interface allows Java to deal with an object in certain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a key aspect of object-oriented design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this idea further in 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600200" y="40593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apter 3 we introduced enumerated types, which define a new data type and list all possible values of that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um Season {winter, spring, summer, f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established, the new type can be used to decla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 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values this variable can be assigned are the ones establish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finition is a special kind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of the enumerated type are object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why the following assignment is val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34560" y="564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finition can be more interesting than a simple list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are like classes, we can add additional instance data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fin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lue listed for the enumerated type calls the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s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son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empts to ensure that the program will solve the intended problem under all the constraints specified in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should be thoroughly tested with the goal of fin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determining the cause of a problem and fix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visit the details of the testing process later in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numerates the values for Sea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enu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ter ("December through February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 ("March through May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er ("June through August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l ("September through Novemb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p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609480" y="105264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each value with an associated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 (String 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 = month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span message for this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Spa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609480" y="10000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ull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terates through the values of the Season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eason time : Season.value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time + "\t" + time.getSpa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609480" y="10000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ull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terates through the values of the Season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eason time : Season.value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time + "\t" + time.getSpa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161800" y="838080"/>
            <a:ext cx="4450680" cy="176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nt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ember through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h through 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une through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l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ptember through 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enumerated type contains a static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a list of all possible values for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st return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cessed using a for-ea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cannot be instantiated outside of its ow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efully designed enumerated type provides a versatile and type-safe mechanism for manag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1600200" y="4592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discussed, high-level design issu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rimary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primary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stablishing high-level design issues, its important to address low-level issues such as the design of ke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methods, careful planning is needed to make sure they contribute to an efficient and elegant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be relatively small, so that it can be understood as a sing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ly large method should be decomposed into several smaller methods as needed for c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service method of an object may call one or more private support methods to help it accomplish it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ethods might call other support methods if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 example that requires method decomposition – translating English into Pig L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 Latin is a language in which each word is modified by moving the initial sound of the word to the end and adding "a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hat begin with vowels have the "yay" sound added on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6"/>
          <p:cNvGrpSpPr/>
          <p:nvPr/>
        </p:nvGrpSpPr>
        <p:grpSpPr>
          <a:xfrm>
            <a:off x="1523880" y="4876920"/>
            <a:ext cx="2743200" cy="380880"/>
            <a:chOff x="1523880" y="4876920"/>
            <a:chExt cx="2743200" cy="380880"/>
          </a:xfrm>
        </p:grpSpPr>
        <p:sp>
          <p:nvSpPr>
            <p:cNvPr id="369" name="Rectangle 4"/>
            <p:cNvSpPr/>
            <p:nvPr/>
          </p:nvSpPr>
          <p:spPr>
            <a:xfrm>
              <a:off x="1523880" y="48769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3047760" y="48769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ookb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6"/>
            <p:cNvSpPr/>
            <p:nvPr/>
          </p:nvSpPr>
          <p:spPr>
            <a:xfrm>
              <a:off x="2438280" y="50673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7"/>
          <p:cNvGrpSpPr/>
          <p:nvPr/>
        </p:nvGrpSpPr>
        <p:grpSpPr>
          <a:xfrm>
            <a:off x="4876920" y="4876920"/>
            <a:ext cx="2743200" cy="380880"/>
            <a:chOff x="4876920" y="4876920"/>
            <a:chExt cx="2743200" cy="380880"/>
          </a:xfrm>
        </p:grpSpPr>
        <p:sp>
          <p:nvSpPr>
            <p:cNvPr id="373" name="Rectangle 7"/>
            <p:cNvSpPr/>
            <p:nvPr/>
          </p:nvSpPr>
          <p:spPr>
            <a:xfrm>
              <a:off x="4876920" y="48769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6400800" y="48769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ablet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9"/>
            <p:cNvSpPr/>
            <p:nvPr/>
          </p:nvSpPr>
          <p:spPr>
            <a:xfrm>
              <a:off x="5791320" y="506736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18"/>
          <p:cNvGrpSpPr/>
          <p:nvPr/>
        </p:nvGrpSpPr>
        <p:grpSpPr>
          <a:xfrm>
            <a:off x="1523880" y="5562720"/>
            <a:ext cx="2743200" cy="380880"/>
            <a:chOff x="1523880" y="5562720"/>
            <a:chExt cx="2743200" cy="380880"/>
          </a:xfrm>
        </p:grpSpPr>
        <p:sp>
          <p:nvSpPr>
            <p:cNvPr id="377" name="Rectangle 10"/>
            <p:cNvSpPr/>
            <p:nvPr/>
          </p:nvSpPr>
          <p:spPr>
            <a:xfrm>
              <a:off x="1523880" y="55627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047760" y="55627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itemy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2438280" y="57531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9"/>
          <p:cNvGrpSpPr/>
          <p:nvPr/>
        </p:nvGrpSpPr>
        <p:grpSpPr>
          <a:xfrm>
            <a:off x="4876920" y="5562720"/>
            <a:ext cx="2743200" cy="380880"/>
            <a:chOff x="4876920" y="5562720"/>
            <a:chExt cx="2743200" cy="380880"/>
          </a:xfrm>
        </p:grpSpPr>
        <p:sp>
          <p:nvSpPr>
            <p:cNvPr id="381" name="Rectangle 13"/>
            <p:cNvSpPr/>
            <p:nvPr/>
          </p:nvSpPr>
          <p:spPr>
            <a:xfrm>
              <a:off x="4876920" y="55627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6400800" y="55627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airch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5791320" y="57531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objective (translating a sentence) is too complicated for one method to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look for natural ways to decompose the solution int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a sentence can be decomposed into the process of translating each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translating a word can be separated into translating word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consonant blends (sh, cr, th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single conson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600200" y="1863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UML class diagram, the visibility of a variable or method can be shown using speci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members are preceded by a plus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members are preceded by a minus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Lati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LatinTranslato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609480" y="9144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gLat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oncept of method decom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La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sentences and translates them into Pig Lat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entence, result, anoth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609480" y="10000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 (no punctuation)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PigLatinTranslator.translate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entence in Pig Latin i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ranslate another sentenc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09480" y="10000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 (no punctuation)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PigLatinTranslator.translate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entence in Pig Latin i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ranslate another sentenc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2155680" y="838080"/>
            <a:ext cx="463392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(no punctua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Do you speak Pig L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entence in Pig Latin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day ouyay eakspay igpay atinl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late another sentenc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(no punctua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lay it again 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entence in Pig Latin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yplay ityay againyay ams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late another sentenc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gLatinTranslato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translator from English to Pig Latin.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ethod decom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LatinTrans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lates a sentence of words into Pig Lat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ranslate (String sent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entence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translateWord (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lates one word into Pig Latin. If the word begins with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owel, the suffix "yay" is appended to the word.  Otherwi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irst letter or two are moved to the end of the wor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"ay" is appen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ranslateWord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eginsWithVowel(wor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 + "y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eginsWithBlend(wor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.substring(2) + word.substring(0,2) + "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.substring(1) + word.charAt(0) + "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specified word begins with a vow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eginsWithVowel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vowels = "aeiou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 = word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owels.indexOf(letter) != 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specified word begins with a part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-character consonant bl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WithBlend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 word.startsWith ("bl") || word.startsWith ("sc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br") || word.startsWith ("s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h") || word.startsWith ("sk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l") || word.startsWith ("sl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r") || word.startsWith ("sn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dr") || word.startsWith ("sm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dw") || word.startsWith ("sp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fl") || word.startsWith ("sq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fr") || word.startsWith ("st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gl") || word.startsWith ("sw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gr") || word.startsWith ("t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kl") || word.startsWith ("tr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h") || word.startsWith ("tw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l") || word.startsWith ("w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r") || word.startsWith ("wr")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Diagram for Pig La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1066680" y="1667520"/>
            <a:ext cx="7086600" cy="3666600"/>
            <a:chOff x="1066680" y="1667520"/>
            <a:chExt cx="7086600" cy="3666600"/>
          </a:xfrm>
        </p:grpSpPr>
        <p:sp>
          <p:nvSpPr>
            <p:cNvPr id="408" name="Rectangle 5"/>
            <p:cNvSpPr/>
            <p:nvPr/>
          </p:nvSpPr>
          <p:spPr>
            <a:xfrm>
              <a:off x="1066680" y="1667520"/>
              <a:ext cx="32004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1066680" y="2071800"/>
              <a:ext cx="3200400" cy="30456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1066680" y="2362320"/>
              <a:ext cx="3200400" cy="4712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3581280" y="3700440"/>
              <a:ext cx="4572000" cy="3380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3581280" y="4038480"/>
              <a:ext cx="4572000" cy="12956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ranslate (sentence : String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ranslateWord (word : String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Vowel (word : String) : bool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Blend (word : String) : bool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3581280" y="3296160"/>
              <a:ext cx="45720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AutoShape 15"/>
            <p:cNvCxnSpPr>
              <a:stCxn id="410" idx="2"/>
              <a:endCxn id="413" idx="1"/>
            </p:cNvCxnSpPr>
            <p:nvPr/>
          </p:nvCxnSpPr>
          <p:spPr>
            <a:xfrm flipH="1" rot="16200000">
              <a:off x="2792880" y="2706840"/>
              <a:ext cx="662760" cy="9151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</p:cxnSp>
      </p:grpSp>
      <p:sp>
        <p:nvSpPr>
          <p:cNvPr id="415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 as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important issue related to method design involves paramete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in a Java method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sed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y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parame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value passed in) is stor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al parame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ethod h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passed to a method, the actual parameter and the formal parameter become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27:20Z</dcterms:created>
  <dc:creator>usnidem</dc:creator>
  <dc:description/>
  <dc:language>en-US</dc:language>
  <cp:lastModifiedBy>Noreen Elliott</cp:lastModifiedBy>
  <dcterms:modified xsi:type="dcterms:W3CDTF">2013-08-12T20:18:35Z</dcterms:modified>
  <cp:revision>18</cp:revision>
  <dc:subject/>
  <dc:title>Chapter #, Title</dc:title>
</cp:coreProperties>
</file>